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8.png" ContentType="image/png"/>
  <Override PartName="/ppt/media/image12.png" ContentType="image/png"/>
  <Override PartName="/ppt/media/image7.wmf" ContentType="image/x-wmf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931C-CA1D-480B-8BD6-9A3637619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FEB0-1E5F-4875-A1D1-8A1044DC6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BAF7-7A90-4EB9-A3C7-931C8363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E322-9110-4D80-BE78-759E160A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889B-1DE9-4AB5-8D7D-765C4F4C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A428-7726-46CF-B9F3-B7165A17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1C12-A8E6-4A81-90DB-AC53E6E0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4674-5730-4D67-B8E9-8A637934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2B7D-F9BD-4C55-A1CF-B68355ED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3A4C-1963-4265-B8DB-C99FC3FB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969C-A05F-4807-9D13-01C17012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F209-574B-497A-A911-6791D7B2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0698-B9FF-4F76-8B5C-C1E8FB19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8246-DFBB-4E0F-8509-7A6EA1EB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BD8F-000D-4D72-8651-544A26F45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9520"/>
            <a:ext cx="3511440" cy="40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North Amer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Documents and Settings\cstocke\Local Settings\Temporary Internet Files\Content.IE5\CHEN8LIR\MCj03978360000[1].wmf"/>
          <p:cNvPicPr/>
          <p:nvPr/>
        </p:nvPicPr>
        <p:blipFill>
          <a:blip r:embed="rId4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2"/>
          <p:cNvGrpSpPr/>
          <p:nvPr/>
        </p:nvGrpSpPr>
        <p:grpSpPr>
          <a:xfrm>
            <a:off x="2743200" y="378000"/>
            <a:ext cx="5029200" cy="768240"/>
            <a:chOff x="2743200" y="378000"/>
            <a:chExt cx="5029200" cy="76824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5029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380880"/>
              <a:ext cx="5029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43200" y="378000"/>
            <a:ext cx="5029200" cy="768240"/>
            <a:chOff x="2743200" y="378000"/>
            <a:chExt cx="5029200" cy="768240"/>
          </a:xfrm>
        </p:grpSpPr>
        <p:pic>
          <p:nvPicPr>
            <p:cNvPr id="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5029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5029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9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" descr="C:\Documents and Settings\cstocke\Local Settings\Temporary Internet Files\Content.IE5\AZWRAVGT\MCj03978380000[1].wmf"/>
          <p:cNvPicPr/>
          <p:nvPr/>
        </p:nvPicPr>
        <p:blipFill>
          <a:blip r:embed="rId3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2"/>
          <p:cNvGrpSpPr/>
          <p:nvPr/>
        </p:nvGrpSpPr>
        <p:grpSpPr>
          <a:xfrm>
            <a:off x="2743200" y="378000"/>
            <a:ext cx="5029200" cy="768240"/>
            <a:chOff x="2743200" y="378000"/>
            <a:chExt cx="5029200" cy="768240"/>
          </a:xfrm>
        </p:grpSpPr>
        <p:pic>
          <p:nvPicPr>
            <p:cNvPr id="100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5029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380880"/>
              <a:ext cx="5029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5791320" y="6019920"/>
            <a:ext cx="2133360" cy="761760"/>
            <a:chOff x="5791320" y="6019920"/>
            <a:chExt cx="2133360" cy="761760"/>
          </a:xfrm>
        </p:grpSpPr>
        <p:sp>
          <p:nvSpPr>
            <p:cNvPr id="108" name="AutoShape 11"/>
            <p:cNvSpPr/>
            <p:nvPr/>
          </p:nvSpPr>
          <p:spPr>
            <a:xfrm>
              <a:off x="5791320" y="6019920"/>
              <a:ext cx="2133360" cy="761760"/>
            </a:xfrm>
            <a:prstGeom prst="rightArrow">
              <a:avLst>
                <a:gd name="adj1" fmla="val 50000"/>
                <a:gd name="adj2" fmla="val 68199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867280" y="6324480"/>
              <a:ext cx="1676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andy Stocker</cp:lastModifiedBy>
  <dcterms:modified xsi:type="dcterms:W3CDTF">2011-08-09T15:04:17Z</dcterms:modified>
  <cp:revision>119</cp:revision>
  <dc:subject/>
  <dc:title>Museum of World Stuff</dc:title>
</cp:coreProperties>
</file>